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C5A-CB73-45CE-A368-D2488C37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CAF-864B-4319-8E79-DB26701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E71-F6F4-40B0-9BD7-3DDA14AC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589-29D1-40C8-9385-4E21ABAA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7604-7DA3-4C11-997A-E9899F7C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FB22-EAA7-421E-A825-7AC2C287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8D6C-5856-4093-8666-1B52C191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AD1A-AF4B-4EA2-9E93-A2B1D72A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4DD5-C03C-494E-BAEC-C4392C8D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3179-5E6A-43D7-B2BC-D765C293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AC1A-7402-4E2B-8726-29BACFF1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25C-C1E3-4777-9252-938EE6F8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16A6-7501-4500-A162-052089EE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D06E-AA0B-4622-8A4C-B0D68FB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7761-86BC-4A87-AFC8-407B7149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5DD6-7842-4671-BAF5-42C92A5E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95A7-6775-45CA-8312-506822AC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BFF-9663-418C-8EBD-A6D7264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244-95BF-43D7-99EB-EAC92877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6D2-4DF6-4A06-B809-85464B43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C3E-342B-4364-92BC-1ECE8FC0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E95-300F-470B-A138-BEF67D0A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BE9-783C-4F5C-A7AF-DBE8F8D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2C2-16C1-4FAE-B574-B3B587F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158E-7BCC-45CF-94E6-5FAAFDDC0202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B513-F435-4D10-8606-92B7612C3832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10080" y="6019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1981080"/>
            <a:ext cx="7467480" cy="4572000"/>
            <a:chOff x="1447920" y="1981080"/>
            <a:chExt cx="7467480" cy="4572000"/>
          </a:xfrm>
        </p:grpSpPr>
        <p:sp>
          <p:nvSpPr>
            <p:cNvPr id="85" name=""/>
            <p:cNvSpPr txBox="1"/>
            <p:nvPr/>
          </p:nvSpPr>
          <p:spPr>
            <a:xfrm>
              <a:off x="1447920" y="1981080"/>
              <a:ext cx="62481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营养要均衡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562720" y="6248520"/>
              <a:ext cx="33526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469880"/>
            <a:ext cx="48006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838600" cy="2377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4320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是小小营养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00040" cy="112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3733920"/>
            <a:ext cx="516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小组合作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利用今天所学的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知识配制一份营养午餐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8108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讨论一下你的食物营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搭配原则是什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4100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876920" y="4495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新宋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81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膳食营养搭配原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每天都吃适当的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运动量比较大，需要多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类食物，补充足够的能量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手指间有一些 脱皮，需要多吃富含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的食物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21337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你学会了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898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我们从食物中获取各种营养，这些营养必须合理搭配，才能保证我们正常生活和成长，这就是营养的均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2767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67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680" y="22860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营养均衡吗？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13260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20" y="990720"/>
            <a:ext cx="91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均衡膳食宝塔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152388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137160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267080" y="2514600"/>
            <a:ext cx="129564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43400" y="4191120"/>
            <a:ext cx="122868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48320" y="5638680"/>
            <a:ext cx="904680" cy="4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38088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“ </a:t>
            </a: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宝塔” 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哪类食物能支持我们的生长发育？</a:t>
            </a:r>
            <a:r>
              <a:rPr b="1" lang="zh-CN" sz="3200" spc="-1" strike="noStrike">
                <a:solidFill>
                  <a:srgbClr val="cc00cc"/>
                </a:solidFill>
                <a:latin typeface="幼圆"/>
                <a:ea typeface="幼圆"/>
              </a:rPr>
              <a:t>哪类食物能给我们提供能量？</a:t>
            </a:r>
            <a:r>
              <a:rPr b="1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哪类食物能使我们保持健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4876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宝塔”中不同种类食物食用量的多少， 又告诉了我们什么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479760"/>
            <a:ext cx="365760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38862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42000" y="2743200"/>
            <a:ext cx="340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27432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0" y="1752480"/>
            <a:ext cx="41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9520" y="609480"/>
            <a:ext cx="2209680" cy="1981440"/>
          </a:xfrm>
          <a:prstGeom prst="leftArrow">
            <a:avLst>
              <a:gd name="adj1" fmla="val 50000"/>
              <a:gd name="adj2" fmla="val 27880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49756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29360" y="1066680"/>
            <a:ext cx="391464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95480" y="762120"/>
            <a:ext cx="2667240" cy="761760"/>
          </a:xfrm>
          <a:prstGeom prst="leftArrow">
            <a:avLst>
              <a:gd name="adj1" fmla="val 50000"/>
              <a:gd name="adj2" fmla="val 87535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这么多食物中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多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少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种食物最营养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包含人类需要的所有营养吗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能总结一下吗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914400"/>
          <a:ext cx="5254560" cy="67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254560" cy="67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 txBox="1"/>
          <p:nvPr/>
        </p:nvSpPr>
        <p:spPr>
          <a:xfrm>
            <a:off x="228600" y="380880"/>
            <a:ext cx="45720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一位小学生一天的食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3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